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F55-6E01-45A9-B243-CFC9321A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D54-05CB-4DC0-9782-E8A056C8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C39-9319-4687-B556-98EF91AB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D56-FEB9-43B1-8677-39265717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FE85-2CD4-4168-81F0-71121279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903B-E451-4FBA-B075-DBEFF502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3531-1FE0-4CB1-8B13-ABC3EAE0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ED45-C1AE-4323-A47E-01885D9E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7CC6-CEA2-4C58-9B9D-8F225FBC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C08F-63F4-4E94-A21B-68A65D25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CC84-7D56-4ACD-9355-7D75A9A0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594-7D07-4A25-863E-34B436B4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8AE2-8187-461E-ABE7-5A6A1944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4AAD-C810-4CC6-B0B0-30E4C3DA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BC5E-0E67-46CB-B856-DA7C3C35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2E0B-ED16-477D-9769-853215C2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E4A8-97BF-4DBF-9D23-451A32C3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F06-22AC-4457-943B-5CE8B9F6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589-FBF8-4A61-92FE-CC8C57F4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FFB-098D-4D30-BA05-870F8720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6EA6-0AB5-4387-98C0-D6432169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D91-A83E-4D2C-A561-8509CAD4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27C-D6A7-48E2-AD3C-BF1F04D4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1C4-F384-4E5F-81B7-DCEF98E1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CB56-EA0D-48C4-9A13-0D79EFD36F8F}" type="slidenum">
              <a:rPr b="0" lang="en-AU" sz="14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7" descr="QGO50002"/>
          <p:cNvPicPr/>
          <p:nvPr/>
        </p:nvPicPr>
        <p:blipFill>
          <a:blip r:embed="rId2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QGO50007"/>
          <p:cNvPicPr/>
          <p:nvPr/>
        </p:nvPicPr>
        <p:blipFill>
          <a:blip r:embed="rId3"/>
          <a:stretch/>
        </p:blipFill>
        <p:spPr>
          <a:xfrm>
            <a:off x="0" y="5410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QGO50003"/>
          <p:cNvPicPr/>
          <p:nvPr/>
        </p:nvPicPr>
        <p:blipFill>
          <a:blip r:embed="rId4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QGO50001"/>
          <p:cNvPicPr/>
          <p:nvPr/>
        </p:nvPicPr>
        <p:blipFill>
          <a:blip r:embed="rId5"/>
          <a:stretch/>
        </p:blipFill>
        <p:spPr>
          <a:xfrm>
            <a:off x="777240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QGO50003"/>
          <p:cNvPicPr/>
          <p:nvPr/>
        </p:nvPicPr>
        <p:blipFill>
          <a:blip r:embed="rId2"/>
          <a:stretch/>
        </p:blipFill>
        <p:spPr>
          <a:xfrm>
            <a:off x="6162840" y="0"/>
            <a:ext cx="2981160" cy="2981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QGO50002"/>
          <p:cNvPicPr/>
          <p:nvPr/>
        </p:nvPicPr>
        <p:blipFill>
          <a:blip r:embed="rId3"/>
          <a:stretch/>
        </p:blipFill>
        <p:spPr>
          <a:xfrm>
            <a:off x="0" y="0"/>
            <a:ext cx="2981160" cy="2981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QGO50007"/>
          <p:cNvPicPr/>
          <p:nvPr/>
        </p:nvPicPr>
        <p:blipFill>
          <a:blip r:embed="rId4"/>
          <a:stretch/>
        </p:blipFill>
        <p:spPr>
          <a:xfrm>
            <a:off x="0" y="3876840"/>
            <a:ext cx="2981160" cy="2981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QGO50001"/>
          <p:cNvPicPr/>
          <p:nvPr/>
        </p:nvPicPr>
        <p:blipFill>
          <a:blip r:embed="rId5"/>
          <a:stretch/>
        </p:blipFill>
        <p:spPr>
          <a:xfrm>
            <a:off x="6162840" y="3876840"/>
            <a:ext cx="2981160" cy="2981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E052-D476-406D-86B0-7C287ADB2468}" type="slidenum">
              <a:rPr b="0" lang="en-AU" sz="14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0066"/>
                </a:solidFill>
                <a:latin typeface="Times New Roman"/>
              </a:rPr>
              <a:t>CHAPTER 2</a:t>
            </a:r>
            <a:endParaRPr b="0" lang="en-US" sz="6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66"/>
                </a:solidFill>
                <a:latin typeface="Times New Roman"/>
              </a:rPr>
              <a:t>PROCESSING SKILLS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 4 - Feedback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Info received by performers about their skill performance (positive and negative neede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Main roles of feedb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Motiva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Reinfor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Change behaviou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66"/>
                </a:solidFill>
                <a:uFillTx/>
                <a:latin typeface="Times New Roman"/>
              </a:rPr>
              <a:t>Different forms of feedback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Internal feedbac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Info gained from inside the body (sens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External feedbac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Info from any external source – coach / vide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Augmented feedback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Any additional info gained about move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Knowledge of results (KR) – feedback from outcome (goal scor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Knowledge of performance (KP) – feedback about movt characterist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Eg golf swing – knowing head moved etc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 4 – Feedback (cont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Factors that affect feedback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Stages of learn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Early stages  - (KR) – simple not too much inf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Intermediate / Advanced  - (KP) – more detailed / technical info about timing and sequence of performan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Precision and Type of feedb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Needs to be precise, accurate and meaningfu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Positive feedback is generally better than negativ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Verbal, physical, written, vide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Effective Feedback – </a:t>
            </a: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summarise </a:t>
            </a:r>
            <a:r>
              <a:rPr b="0" lang="en-AU" sz="2000" spc="-1" strike="noStrike" u="sng">
                <a:solidFill>
                  <a:srgbClr val="000066"/>
                </a:solidFill>
                <a:uFillTx/>
                <a:latin typeface="Times New Roman"/>
              </a:rPr>
              <a:t>table 2.2</a:t>
            </a: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 Page 6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Timing and Frequency of Feedb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Feedback can be used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Before the movement (info retrieved from memo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During the movement (concurrent feedbac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After the movement (terminal feedbac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66"/>
                </a:solidFill>
                <a:latin typeface="Times New Roman"/>
              </a:rPr>
              <a:t>Information Processing – Skilled Perform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66"/>
                </a:solidFill>
                <a:latin typeface="Times New Roman"/>
              </a:rPr>
              <a:t>A skilled performer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Has greater ability to detect cu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Can filter out noise and anticipate necessary respons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Can reduce reaction time through practi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Is less easily trick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Seems to have almost automatic respons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Can utilise internal / external feedback more effectivel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66"/>
                </a:solidFill>
                <a:latin typeface="Times New Roman"/>
              </a:rPr>
              <a:t>Checkpoints Page 65 – Q1,2,3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66"/>
                </a:solidFill>
                <a:latin typeface="Times New Roman"/>
              </a:rPr>
              <a:t>Year 11 - Homework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Stage 3: Outp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Define Movement Time and Response Tim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Copy Figure 2.15 – Page 5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Stage 4: Feedb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Read Pages 57-6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What are the main roles of feedback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Define: Internal, External, Augmented feedbac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Define (KR) and (KP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What are the factors that effect feedback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Summarise the characteristics of a skilled perform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Complete checkpoints Page 65 – Q1,2,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66"/>
                </a:solidFill>
                <a:latin typeface="Times New Roman"/>
              </a:rPr>
              <a:t>Stages of Processing Skill Information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66"/>
                </a:solidFill>
                <a:latin typeface="Times New Roman"/>
              </a:rPr>
              <a:t>Your skill performance is ultimately determined by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Quality of environmental info you receiv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How you learn the skil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The amount and type of previous experience you have ha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s of processing a skill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Input / stimulu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Info and signals we receive about the ski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Process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How the info is processed to make a deci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Output / move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Our response to decision ma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Feedback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Our evaluation and use of the info we receive about our perform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66"/>
                </a:solidFill>
                <a:uFillTx/>
                <a:latin typeface="Times New Roman"/>
              </a:rPr>
              <a:t>Copy table 2.3 page 4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 1 - Inpu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Info gathered from external by body’s sensory system and from the internal from proprioceptors (muscles/tendons, joints/nerve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Exteroceptive Inform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Performer receives info from external environ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Sight / hearing / touch (Field placings / speed of pitch etc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Proprioceptive Inform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Performer receives info from within the bod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Tension in muscles / joints etc…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Batter feels a good hi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Checkpoints – page 4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 2 - Processing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Made up of 3 compon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Stimulus identification (interprets and organises info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Response Selection (makes decisions about info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Response programming (coordinates movement response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STIMULUS IDENTIFIC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66"/>
                </a:solidFill>
                <a:uFillTx/>
                <a:latin typeface="Times New Roman"/>
              </a:rPr>
              <a:t>Signal detec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Process of identifying the cues gathered by the sen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7200" indent="-37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Signal detection affected b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4" marL="2165400" indent="-37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Cue intensity (signal size – larger balls / contrasting colou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4" marL="2165400" indent="-37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Length / Time of cue: (serves in tennis – 200kmh vs 160kmh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4" marL="2165400" indent="-37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Noise (distraction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4" marL="2165400" indent="-37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Capability of senses (good peripheral vision etc…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4" marL="2165400" indent="-37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Of our 5 senses – the most important to affect your cue detection is sight, as most sports rely on visual cue dete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Checkpoints 1 – 4 Page 4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 2 – Processing (cont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AU" sz="2000" spc="-1" strike="noStrike" u="sng">
                <a:solidFill>
                  <a:srgbClr val="000066"/>
                </a:solidFill>
                <a:uFillTx/>
                <a:latin typeface="Times New Roman"/>
              </a:rPr>
              <a:t>Selective atten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Process which directs our attention to a cu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Influenced by 3 areas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66"/>
                </a:solidFill>
                <a:uFillTx/>
                <a:latin typeface="Times New Roman"/>
              </a:rPr>
              <a:t>Arousal level</a:t>
            </a:r>
            <a:r>
              <a:rPr b="0" lang="en-AU" sz="1400" spc="-1" strike="noStrike">
                <a:solidFill>
                  <a:srgbClr val="000066"/>
                </a:solidFill>
                <a:latin typeface="Times New Roman"/>
              </a:rPr>
              <a:t> (degree to which you are ready to receive a cue – too relaxed / too nervous etc..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66"/>
                </a:solidFill>
                <a:uFillTx/>
                <a:latin typeface="Times New Roman"/>
              </a:rPr>
              <a:t>Experience and Anticipation</a:t>
            </a:r>
            <a:r>
              <a:rPr b="0" lang="en-AU" sz="1400" spc="-1" strike="noStrike">
                <a:solidFill>
                  <a:srgbClr val="000066"/>
                </a:solidFill>
                <a:latin typeface="Times New Roman"/>
              </a:rPr>
              <a:t> (ability to predict what is going to happen – not just a gue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66"/>
                </a:solidFill>
                <a:uFillTx/>
                <a:latin typeface="Times New Roman"/>
              </a:rPr>
              <a:t>Quality of Instruction</a:t>
            </a:r>
            <a:r>
              <a:rPr b="0" lang="en-AU" sz="1400" spc="-1" strike="noStrike">
                <a:solidFill>
                  <a:srgbClr val="000066"/>
                </a:solidFill>
                <a:latin typeface="Times New Roman"/>
              </a:rPr>
              <a:t> (learners will benefit from meaningful cue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66"/>
                </a:solidFill>
                <a:uFillTx/>
                <a:latin typeface="Times New Roman"/>
              </a:rPr>
              <a:t>Response Sele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Performer must decide on appropriate respon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Process is easier for an advanced performer as similar info held in long term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66"/>
                </a:solidFill>
                <a:uFillTx/>
                <a:latin typeface="Times New Roman"/>
              </a:rPr>
              <a:t>Response Programm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Motor response / skill is an automatic response to the cues being observ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Directly affected by reaction 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Checkpoints 1, 3 Page 4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 2 – Processing (cont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AU" sz="3200" spc="-1" strike="noStrike" u="sng">
                <a:solidFill>
                  <a:srgbClr val="000066"/>
                </a:solidFill>
                <a:uFillTx/>
                <a:latin typeface="Times New Roman"/>
              </a:rPr>
              <a:t>Reaction Tim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Following factors affect reaction tim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Age and Gender (Men faster – older slow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Intensity of cue (louder / brighter = fas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Number of choices (greater choices = great R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Probability of cue occurring (anticipating eg100m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Presence / absence of warning sig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Starter – on your marks / get s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Successive cu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brain can only process one cue at a tim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66"/>
                </a:solidFill>
                <a:uFillTx/>
                <a:latin typeface="Times New Roman"/>
              </a:rPr>
              <a:t>Complete Lab Report Page 5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 2 – Processing (cont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66"/>
                </a:solidFill>
                <a:uFillTx/>
                <a:latin typeface="Times New Roman"/>
              </a:rPr>
              <a:t>The role of memory</a:t>
            </a:r>
            <a:r>
              <a:rPr b="0" lang="en-AU" sz="2800" spc="-1" strike="noStrike" u="sng">
                <a:solidFill>
                  <a:srgbClr val="000066"/>
                </a:solidFill>
                <a:uFillTx/>
                <a:latin typeface="Times New Roman"/>
              </a:rPr>
              <a:t>:</a:t>
            </a:r>
            <a:r>
              <a:rPr b="0" lang="en-AU" sz="1200" spc="-1" strike="noStrike">
                <a:solidFill>
                  <a:srgbClr val="000066"/>
                </a:solidFill>
                <a:latin typeface="Times New Roman"/>
              </a:rPr>
              <a:t>– plays important part in storage / processing of inf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3 types of memory ar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66"/>
                </a:solidFill>
                <a:uFillTx/>
                <a:latin typeface="Times New Roman"/>
              </a:rPr>
              <a:t>Short term sensory store: </a:t>
            </a: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limitless memory store – holds information for about 1 sec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66"/>
                </a:solidFill>
                <a:uFillTx/>
                <a:latin typeface="Times New Roman"/>
              </a:rPr>
              <a:t>Short term memory: </a:t>
            </a: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‘working’ memory limited to between 5-9 items – held for up to 1 m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66"/>
                </a:solidFill>
                <a:uFillTx/>
                <a:latin typeface="Times New Roman"/>
              </a:rPr>
              <a:t>Long term memory: </a:t>
            </a: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limitless store which holds relevant information for later u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66"/>
                </a:solidFill>
                <a:uFillTx/>
                <a:latin typeface="Times New Roman"/>
              </a:rPr>
              <a:t>Relevance and meaning of inform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More likely to remember info if you are interested / meaningful to you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Interference: noise etc. distracts you from remember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Coding and Chunking: improves short term memory by combining individual pieces of inf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Eg: 9435310839 – 94 35 31 08 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Rehearsal: practice info shortly after being told etc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Checkpoints: Page 55 – Q2,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 3 - Outpu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66"/>
                </a:solidFill>
                <a:latin typeface="Times New Roman"/>
              </a:rPr>
              <a:t>During the output stage the neuromuscular system automatically carries out response started / coordinated by C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66"/>
                </a:solidFill>
                <a:uFillTx/>
                <a:latin typeface="Times New Roman"/>
              </a:rPr>
              <a:t>Movement time: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time b/w starting and completing respons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66"/>
                </a:solidFill>
                <a:uFillTx/>
                <a:latin typeface="Times New Roman"/>
              </a:rPr>
              <a:t>Response time: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onset of cue to completion of mov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Reaction time + Movement tim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21:09:44Z</dcterms:created>
  <dc:creator>DE&amp;T User</dc:creator>
  <dc:description/>
  <dc:language>en-US</dc:language>
  <cp:lastModifiedBy>Lyn Clarkson</cp:lastModifiedBy>
  <dcterms:modified xsi:type="dcterms:W3CDTF">2009-10-12T23:14:35Z</dcterms:modified>
  <cp:revision>17</cp:revision>
  <dc:subject/>
  <dc:title>Stages of Processing Skill Information</dc:title>
</cp:coreProperties>
</file>